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BCC-AD4D-4664-B6D7-7401642C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93F-0C09-4DF4-9A27-99E2343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883-082B-4AA3-9A84-CEADD158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609-03D8-47DF-9B76-0EEDE57E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F097-214F-486D-83D8-EE156CEF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B3CA-5A5A-4666-8839-8E688B4C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0BFD-9125-4006-B76B-907B6679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A20-46A8-42B1-AEED-19E1B7AB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6C37-DB22-4732-A60C-44BED928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39EF-3283-4E8D-BA9B-F8A4AC25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E47B-D9D3-4D97-84CD-3F89060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837-5812-41D1-AB13-BE82A252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D97C-FA53-4036-8F07-0FE69A5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23F4-BC5C-4821-A01C-F7EB57B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5ADB-6AB8-4612-B230-6D991FD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D1EC-A701-4217-8474-253D56E8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D024-A7C6-4CB8-ACA1-9DA33297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F1A-AB10-425F-8B50-5642D3BF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713-2463-4301-87A6-BAC728A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61E-BEAD-40CB-8817-A0601162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167-859A-4E8A-B9FF-8B9EC4E3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397-F42B-4642-9AE6-3ACAFD85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7B0-278A-4723-9B5A-7C74E1E9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C0E-6B82-4C55-996E-C7D6980D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B032-9613-4675-A0AB-31F058B499C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62AA-EB5B-46DF-A012-2BD5AE2DFF7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</a:t>
            </a: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ражданское общество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авовое государство»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6"/>
          <p:cNvSpPr/>
          <p:nvPr/>
        </p:nvSpPr>
        <p:spPr>
          <a:xfrm>
            <a:off x="2343240" y="0"/>
            <a:ext cx="4019400" cy="3809880"/>
          </a:xfrm>
          <a:prstGeom prst="ellipse">
            <a:avLst/>
          </a:prstGeom>
          <a:solidFill>
            <a:srgbClr val="33cccc">
              <a:alpha val="62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</a:rPr>
              <a:t>ГРАЖДАНСКОЕ ОБЩЕСТВО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 социальные структу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отнош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торые не регулиру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ластью и государ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505320" y="2565360"/>
            <a:ext cx="3886200" cy="3683160"/>
          </a:xfrm>
          <a:prstGeom prst="ellipse">
            <a:avLst/>
          </a:prstGeom>
          <a:solidFill>
            <a:srgbClr val="99ccff">
              <a:alpha val="33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  <a:ea typeface="Times New Roman"/>
              </a:rPr>
              <a:t>ГРАЖДАНСКОЕ ОБЩЕСТВО –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пределенном этапе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 - экономического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ого развития,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снова демократическог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ого государства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27"/>
          <p:cNvSpPr/>
          <p:nvPr/>
        </p:nvSpPr>
        <p:spPr>
          <a:xfrm>
            <a:off x="152280" y="2565360"/>
            <a:ext cx="4381560" cy="4292640"/>
          </a:xfrm>
          <a:prstGeom prst="ellipse">
            <a:avLst/>
          </a:prstGeom>
          <a:solidFill>
            <a:srgbClr val="33cc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70"/>
                </a:solidFill>
                <a:latin typeface="Times New Roman"/>
              </a:rPr>
              <a:t>ПРАВОВОЕ ГОСУДАРСТВО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граниченное в своих действиях прав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чиненное воле суверенного народ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ражаемой в конституци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званное обеспечи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новополагающие пр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свободу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6362640" y="376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962680" y="746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образие форм собственности (частная и др.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крат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защищённость граждан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ая культу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457200" y="11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0" y="476280"/>
            <a:ext cx="32767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ховенство закон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прав и свобод личности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форма взаимоотношений индивида, общества и государств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разделения вла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4533840" y="28843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819520" y="29257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3619440" y="416880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5:08:22Z</dcterms:created>
  <dc:creator>user</dc:creator>
  <dc:description/>
  <dc:language>en-US</dc:language>
  <cp:lastModifiedBy>Ильясова Наталья Николаевна</cp:lastModifiedBy>
  <dcterms:modified xsi:type="dcterms:W3CDTF">2012-12-19T12:19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